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649-27D6-4CEA-997B-39E6F71D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9F86-32C8-4D17-9869-F90D5ECE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BBF9-2B23-40C6-9110-2319FC00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C3A-5421-4CBC-B425-D15FE5E1A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0423-F367-4739-BB41-4829833F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D220-7139-4F81-A88E-B8EF10FA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B955-0716-4998-9441-C32BFD19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8267-83C1-4E79-A614-E2C5A01A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5436-3400-41D6-8EA3-D00A69B2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DE86-148C-4762-A5E6-4A6D357D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18280-6E29-4DAB-9E1A-016C5CCC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57E-707C-4EA4-8424-F21BA68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21EE-98A3-490D-85F8-6F96A24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F83F-0EC8-498E-838C-ED2EF0E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B264-8A67-4750-9E1C-105B56ED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8571-05E7-41A7-9CC4-82991AEB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77C-9EB0-44CD-89F7-AB123569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4FBB-F644-42D9-92E5-FC51C7A2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56F-570F-43B8-81B1-828A4382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5BAE-226D-417F-8766-E405E53C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789-1532-4021-992D-6CD31E1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A13-7973-4172-80CC-E7D7F8A5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3238-9FB3-46F9-A801-B694FFA8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F3F-41C0-4923-AA4E-C0452396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6831-02EE-45ED-9B1E-47D6639261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6085-9C20-46E6-B6AA-1A405034A4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re</a:t>
            </a:r>
            <a:r>
              <a:rPr b="0" lang="ro-RO" sz="5400" spc="-1" strike="noStrike">
                <a:solidFill>
                  <a:srgbClr val="ccecff"/>
                </a:solidFill>
                <a:latin typeface="Arial"/>
              </a:rPr>
              <a:t>z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ntarea</a:t>
            </a:r>
            <a:r>
              <a:rPr b="0" lang="ro-RO" sz="5400" spc="-1" strike="noStrike">
                <a:solidFill>
                  <a:srgbClr val="ccecff"/>
                </a:solidFill>
                <a:latin typeface="Arial"/>
              </a:rPr>
              <a:t> cărţi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Elev: Micuşan Alexand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Şcoala: “Simion Balint” Copăcen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lasa: a II-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opertă            cotor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agini                                          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90920" y="2362320"/>
            <a:ext cx="3504960" cy="24606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81080" y="2133720"/>
            <a:ext cx="6098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441972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6019920" y="4495320"/>
            <a:ext cx="76176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20574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Titlul cărţii es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inocch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utorul es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arlo Collo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ersonajul principal: Pinocch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lte personaje: Gepetto, greierele, zâna, motanul, vulpoiul, circaru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au s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ă vă spun câteva lucruri!!! Vă rog să reţineţi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artea am procurat-o de la bibliotecă, pentru o săptămân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m studiat-o cu mare grijă, fără să rup sau să îndoi pagini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m citit cu mult interes această carte şi am învăţat multe lucruri din întâmplările şi peripeţiile lui Pinocchi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Recomand tuturor colegilor şi prietenilor această car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7:25Z</dcterms:created>
  <dc:creator>Cursant02</dc:creator>
  <dc:description/>
  <dc:language>en-US</dc:language>
  <cp:lastModifiedBy>Andrei</cp:lastModifiedBy>
  <dcterms:modified xsi:type="dcterms:W3CDTF">2010-09-13T20:29:28Z</dcterms:modified>
  <cp:revision>4</cp:revision>
  <dc:subject/>
  <dc:title>Prezentarea cărţii</dc:title>
</cp:coreProperties>
</file>